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9CD0-E0D0-48A3-A14D-7EF405D9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D78C-B00A-4370-96CB-83381A48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831A-7788-444E-AA74-F0F64086C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8FCB-A590-4886-974E-0F22994D6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E575-1693-48B5-89F8-735B3492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0BAA-45C3-4F5F-B7D4-0A79894F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DC1B-08A5-4E5A-BAD0-EA0A712A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64AA-A073-4775-BA06-4EC3CECB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4B30-62A4-45B4-83CB-BC2D2669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1288-2B21-4135-9E89-5F2441F4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EFFD-4FD3-4C00-BBB8-85B496DF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8881-B76A-480C-AAB0-38615842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23AF-1E07-4920-A8E5-FF232B6AE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836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ловек неповторим, живет одновременно во внешнем и внутреннем м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58920" y="1341360"/>
            <a:ext cx="68421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alisto MT"/>
              </a:rPr>
              <a:t>Самопозна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alisto MT"/>
              <a:ea typeface="Calisto M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flipH="1" rot="21471000">
            <a:off x="6067080" y="3998520"/>
            <a:ext cx="273528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едставим наше сознание («Я») в виде круг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rot="16200000">
            <a:off x="2502000" y="2114640"/>
            <a:ext cx="3311280" cy="363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393372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67280" y="2276640"/>
            <a:ext cx="0" cy="34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7280" y="422100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Я» скрыт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0000" y="314172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1392400">
            <a:off x="2779200" y="2850840"/>
            <a:ext cx="124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         «Я» открыт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301788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Я» слеп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4457880"/>
            <a:ext cx="144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99120" y="4005360"/>
            <a:ext cx="16412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Я» неизвес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2060640"/>
            <a:ext cx="24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1840" y="2082960"/>
            <a:ext cx="25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ткрытое «Я»: знание о себе  и о друг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39424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рытое «Я»: секреты – все, что вы думаете, чувст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уете,скрываете это в се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19840" y="1989000"/>
            <a:ext cx="2900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епое «Я»: то, что  инте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сно другим, вам не очень ясно: привычки, мане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щитные мех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64200" y="5033880"/>
            <a:ext cx="275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известное «Я»: то,что не известно никому и проявляется в определе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ых ситуациях;бессозн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льно- мечты,комплек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ы,мистический опы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19840" y="4962600"/>
            <a:ext cx="297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амопознание – это путь от скрытого «Я» к открытому «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жно себе представить, что деление «Я» на четыре равных сектора возможно только в книжке, да и то анонимного авт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жизни мы непременно встречаемся   с индивидуальным своеобразием, когда представленные секторы нерав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бы вы разделили круг на секторы применительно к собственному «Я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2637000"/>
            <a:ext cx="8229600" cy="37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именно т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27280" y="3068640"/>
            <a:ext cx="3673440" cy="331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03640" y="3833640"/>
            <a:ext cx="24480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1" dur="indefinite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2" dur="indefinite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просы к семинар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самопознание и его фор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место находит самопознание в художественной и философской литературе. Приме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роисходит формирование образа - 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формируется самооценка лич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ль самоисповеди и самопознания в жизни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дивидуальные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найти определения, которые характеризуют ученик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олько характеристик можно отнести к положительным оценка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олько к отрицательны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олько являются нейтральным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оценить себя с точки зрения готовности к учебе и общению с товарищам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сформировать цели самовоспит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08:19:26Z</dcterms:created>
  <dc:creator>учитель</dc:creator>
  <dc:description/>
  <dc:language>en-US</dc:language>
  <cp:lastModifiedBy>Тамара Андреевна</cp:lastModifiedBy>
  <dcterms:modified xsi:type="dcterms:W3CDTF">2008-10-15T04:33:15Z</dcterms:modified>
  <cp:revision>5</cp:revision>
  <dc:subject/>
  <dc:title>Слайд 1</dc:title>
</cp:coreProperties>
</file>